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563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56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A145-4A9E-4689-926B-89731D40D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F Eccentric Opu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SF Eccentric Opu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6037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4"/>
          </p:nvPr>
        </p:nvSpPr>
        <p:spPr>
          <a:xfrm>
            <a:off x="-360" y="881856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5"/>
          </p:nvPr>
        </p:nvSpPr>
        <p:spPr>
          <a:xfrm>
            <a:off x="3966840" y="881856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631A-2C76-4297-83B6-24EEE42EF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67200" y="8818560"/>
            <a:ext cx="3035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6C14-A15D-4D9E-989B-79F251C8D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6037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67200" y="8818560"/>
            <a:ext cx="3035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BC76-44F9-4279-B8E2-1D3F52D50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6037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F3AD-8AB2-4E91-B722-87C7910F1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600" y="396360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5E31-62B6-4478-9353-66998A9A1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8880" y="396360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9386-C8BF-48C0-B5E0-2CE192A8A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91400" y="125712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25712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600" y="396360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91400" y="396360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6360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4A3C-FED0-472A-946C-9ECFF6CE0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25712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360" y="45720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600" y="125712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FF5D-4D4E-4818-A6A5-2EF245A42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8880" y="396360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396360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8880" y="396360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1400" y="125712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4200" y="125712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396360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1400" y="396360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4200" y="396360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F559-659F-4FD5-A61F-AB21F2C82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72A7-CC0A-4563-B9EC-92AB3819F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CCFC-FA9B-4E29-B615-16EBC33C3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360" y="45720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7E75-D028-45AB-892D-060EA0793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1255-C986-42AD-9C1E-22241705C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8880" y="396360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F9EA-431B-4313-94DF-327AC4AB1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25712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6360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5ACF-A469-4574-A587-AF39E6472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planetpro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PlanetPro swoosh logo only"/>
          <p:cNvPicPr/>
          <p:nvPr/>
        </p:nvPicPr>
        <p:blipFill>
          <a:blip r:embed="rId2"/>
          <a:srcRect l="45455" t="45447" r="43941" b="43937"/>
          <a:stretch/>
        </p:blipFill>
        <p:spPr>
          <a:xfrm>
            <a:off x="0" y="419040"/>
            <a:ext cx="106668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76320"/>
            <a:ext cx="9144000" cy="228600"/>
          </a:xfrm>
          <a:prstGeom prst="rect">
            <a:avLst/>
          </a:prstGeom>
          <a:solidFill>
            <a:srgbClr val="ccff33"/>
          </a:solidFill>
          <a:ln w="0">
            <a:solidFill>
              <a:srgbClr val="ccff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 flipV="1">
            <a:off x="0" y="6552360"/>
            <a:ext cx="9144000" cy="304920"/>
          </a:xfrm>
          <a:prstGeom prst="rect">
            <a:avLst/>
          </a:prstGeom>
          <a:solidFill>
            <a:srgbClr val="ccff33"/>
          </a:solidFill>
          <a:ln w="0">
            <a:solidFill>
              <a:srgbClr val="ccff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2"/>
          <p:cNvSpPr/>
          <p:nvPr/>
        </p:nvSpPr>
        <p:spPr>
          <a:xfrm>
            <a:off x="838080" y="304920"/>
            <a:ext cx="8305920" cy="75960"/>
          </a:xfrm>
          <a:prstGeom prst="pie">
            <a:avLst/>
          </a:pr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3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4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SF Eccentric Opus"/>
              </a:rPr>
              <a:t>Click to edit the title text format</a:t>
            </a:r>
            <a:endParaRPr b="1" lang="en-US" sz="20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25712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SzPct val="1542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9"/>
          <p:cNvSpPr/>
          <p:nvPr/>
        </p:nvSpPr>
        <p:spPr>
          <a:xfrm>
            <a:off x="7543800" y="63360"/>
            <a:ext cx="167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lanetpro.com</a:t>
            </a:r>
            <a:r>
              <a:rPr b="0" lang="en-US" sz="11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009920" y="6619680"/>
            <a:ext cx="21337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83BC-0838-4425-8F2F-5EAC150E71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286000" y="6619680"/>
            <a:ext cx="449568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PlanetPro 2010. All rights reserved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planetpro-logo"/>
          <p:cNvPicPr/>
          <p:nvPr/>
        </p:nvPicPr>
        <p:blipFill>
          <a:blip r:embed="rId2"/>
          <a:stretch/>
        </p:blipFill>
        <p:spPr>
          <a:xfrm>
            <a:off x="2666880" y="1733400"/>
            <a:ext cx="3505320" cy="1619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cff33"/>
          </a:solidFill>
          <a:ln w="0">
            <a:solidFill>
              <a:srgbClr val="ccff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0" y="3429000"/>
            <a:ext cx="3733920" cy="152280"/>
          </a:xfrm>
          <a:prstGeom prst="pie">
            <a:avLst/>
          </a:pr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3505320" y="4114800"/>
            <a:ext cx="5257800" cy="0"/>
          </a:xfrm>
          <a:prstGeom prst="line">
            <a:avLst/>
          </a:prstGeom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 flipH="1">
            <a:off x="-19440" y="3429000"/>
            <a:ext cx="916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F Eccentric Opu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F Eccentric Op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680" y="38098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542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www.planetpro.com/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27480" y="3276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SF Eccentric Opus"/>
              </a:rPr>
              <a:t>Wireframes &amp; other detail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SF Eccentric Opus"/>
              </a:rPr>
              <a:t>for PlanetPro website</a:t>
            </a:r>
            <a:endParaRPr b="0" lang="en-US" sz="3000" spc="-1" strike="noStrike">
              <a:solidFill>
                <a:srgbClr val="000000"/>
              </a:solidFill>
              <a:latin typeface="SF Eccentric Opu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Logo &amp; web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irefr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Miscellane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5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906F-278D-47F0-8081-D4CBFE01B9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SF Eccentric Opus"/>
              </a:rPr>
              <a:t>Notes</a:t>
            </a:r>
            <a:endParaRPr b="1" lang="en-US" sz="18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SzPct val="3085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attached wireframes are coded into our content management system. However, we are flexible on changing the wireframes if we get a good design with elegant look &amp; fee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SzPct val="3085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</a:rPr>
              <a:t>Sales Planning Analyt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ustomer Targeting, Territory Planning, Campaign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</a:rPr>
              <a:t>Sales Productivity Cen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Quoting center, proposal center, CRM center, Partner center, Reference center, De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</a:rPr>
              <a:t>Sales Measurement Analyt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Business Reporting, Metrics &amp; Benchmarking, Pipeline health check, Sales rep scorecards, What-if analyses, Data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SzPct val="3085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</a:rPr>
              <a:t>About us / who we are /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</a:rPr>
              <a:t>Our core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SzPct val="3085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y us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company to provide target customer lists that are unique to your companies cap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 algorithms help your sales force focus on high probability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: get actionable insights in 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upfront costs: no software implementation; no capital expend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SzPct val="3085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re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(Ajax implementation) for job po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to submit res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SzPct val="3085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tional Lin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us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94C9-AF8F-4876-B580-1553FC81FE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476800" cy="1193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2476440" cy="11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0" y="1981080"/>
            <a:ext cx="2514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2286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3320" y="2514600"/>
            <a:ext cx="185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ing 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&lt; grow $$&gt;&gt;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SF Eccentric Opus"/>
              </a:rPr>
              <a:t>Logo &amp; weblink</a:t>
            </a:r>
            <a:endParaRPr b="1" lang="en-US" sz="18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58128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website: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lanetpr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refer the website for corporate colors / palette and to get to know about PlanetP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ent management system is developed separately and not yet relea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DB60-8B51-4706-82BF-A3A96D858F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SF Eccentric Opus"/>
              </a:rPr>
              <a:t>Wireframe for home page</a:t>
            </a:r>
            <a:endParaRPr b="1" lang="en-US" sz="18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0666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523880"/>
            <a:ext cx="7467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olutions         Why Us        Company        Car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066680"/>
            <a:ext cx="3276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 in (register) | Contact us | Site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828800"/>
            <a:ext cx="861048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ner(s) with some storyline about each of our offe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276720"/>
            <a:ext cx="190476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/ Elevator 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6800" y="3276720"/>
            <a:ext cx="167616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Planning Analy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image / tex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2960" y="3276720"/>
            <a:ext cx="167652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Operations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image / tex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3276720"/>
            <a:ext cx="167652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Measurement Analy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image/tex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3276720"/>
            <a:ext cx="167652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estimon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tex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6248520"/>
            <a:ext cx="8610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| Disclaimer | 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8600" y="59436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080" y="59436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1280" y="59436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7800" y="59436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A538-B0B4-4374-A170-0BC4FB5946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SF Eccentric Opus"/>
              </a:rPr>
              <a:t>Wireframe for all pages except home, career</a:t>
            </a:r>
            <a:endParaRPr b="1" lang="en-US" sz="18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0666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523880"/>
            <a:ext cx="7467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Us        Comp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Car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066680"/>
            <a:ext cx="3276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 in (register) | Contact us | Site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1828800"/>
            <a:ext cx="50292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ner(s) with a storyline / text on the selected (sub) o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8800"/>
            <a:ext cx="1904760" cy="441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ion tree with su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6800" y="3276720"/>
            <a:ext cx="503208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Planning Analy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image / tex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3276720"/>
            <a:ext cx="167652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image / tex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248520"/>
            <a:ext cx="8610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| Disclaimer | 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1828800"/>
            <a:ext cx="16765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/ Graphic relevant to the (sub) o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EFE0-9BB1-4441-B3B6-37938C7AB4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SF Eccentric Opus"/>
              </a:rPr>
              <a:t>Wireframe for career</a:t>
            </a:r>
            <a:endParaRPr b="1" lang="en-US" sz="1800" spc="-1" strike="noStrike">
              <a:solidFill>
                <a:srgbClr val="003399"/>
              </a:solidFill>
              <a:latin typeface="SF Eccentric Opus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0666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523880"/>
            <a:ext cx="7467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olutions         Why Us        Company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066680"/>
            <a:ext cx="3276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 in (register) | Contact us | Site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828800"/>
            <a:ext cx="4800600" cy="441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image / tex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1828800"/>
            <a:ext cx="3809880" cy="441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for resum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6248520"/>
            <a:ext cx="8610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| Disclaimer | 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12193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41F8-ED3A-430A-BC89-DAFE7FD761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819520" y="2209680"/>
            <a:ext cx="3276360" cy="2438640"/>
            <a:chOff x="2819520" y="2209680"/>
            <a:chExt cx="3276360" cy="2438640"/>
          </a:xfrm>
        </p:grpSpPr>
        <p:sp>
          <p:nvSpPr>
            <p:cNvPr id="147" name=""/>
            <p:cNvSpPr/>
            <p:nvPr/>
          </p:nvSpPr>
          <p:spPr>
            <a:xfrm>
              <a:off x="2819520" y="4267080"/>
              <a:ext cx="32763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2819520" y="2209680"/>
              <a:ext cx="3276360" cy="21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2886120" y="4282920"/>
              <a:ext cx="3076200" cy="3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E506-11B9-45A3-88D1-0F6A015EF2D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17:19:35Z</dcterms:created>
  <dc:creator>Srinivas Pannala</dc:creator>
  <dc:description/>
  <dc:language>en-US</dc:language>
  <cp:lastModifiedBy>Paarmita</cp:lastModifiedBy>
  <dcterms:modified xsi:type="dcterms:W3CDTF">2010-06-13T19:02:03Z</dcterms:modified>
  <cp:revision>2175</cp:revision>
  <dc:subject/>
  <dc:title>Analytics &amp; Reporting Services Business v4</dc:title>
</cp:coreProperties>
</file>